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coin.wav" ContentType="audio/x-wav"/>
  <Override PartName="/ppt/media/image13.gif" ContentType="image/gif"/>
  <Override PartName="/ppt/media/image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applause.wav" ContentType="audio/x-wav"/>
  <Override PartName="/ppt/media/image6.jpeg" ContentType="image/jpeg"/>
  <Override PartName="/ppt/media/image7.wmf" ContentType="image/x-wmf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FC2-4D5F-46B2-AF59-A7EA8DBF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94EF-B19F-4206-93AB-942DEEFB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E4CE-D0F1-47F1-A6A0-C51B3DD9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01A-7915-440B-924F-9CE60CA5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5EDF-018F-4096-8243-83D47116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4124-CF52-465D-B897-087FA213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1B8D-64FE-48BA-9C4B-F0552305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9E17-282D-4D2C-BCB8-816520FA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05C2-9AAA-4850-9205-5A6CE1E78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3F35C-5FA0-4626-9502-AEE57B22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E8A0-972A-45BB-A43E-B1C8A11D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132-F3D3-4F0F-9090-051136C7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0629-D65B-4131-AEF5-677F7CC7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C04F-E837-4B56-B837-0B821BC8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B28D-58B5-4EAF-AF2F-1B4AD68B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BE9A-29BB-4604-8F1D-CEE8EC4C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86FF-511B-49F1-89A3-533A2EA6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D22-CE88-47E2-8152-CC94FC37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1EBC-9712-4B5F-B59C-A5137E7D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880A-7604-41CE-9ECF-06A5B8A2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0773-0B8A-46E8-8A12-A65DC8BA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EAE-FF02-48D6-A5F1-FE293F62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904-1EDB-4038-B3D9-1232D884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14A-1938-4047-B46F-72FC5A9B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6CB3-6ED0-45E9-99D8-723F1653FAE5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2E8A3-1CA9-4B70-BFB8-8A67F223641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7.xml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3.jpeg"/><Relationship Id="rId11" Type="http://schemas.openxmlformats.org/officeDocument/2006/relationships/image" Target="../media/image5.jpeg"/><Relationship Id="rId12" Type="http://schemas.openxmlformats.org/officeDocument/2006/relationships/image" Target="../media/image2.jpeg"/><Relationship Id="rId13" Type="http://schemas.openxmlformats.org/officeDocument/2006/relationships/image" Target="../media/image6.jpeg"/><Relationship Id="rId14" Type="http://schemas.openxmlformats.org/officeDocument/2006/relationships/image" Target="../media/image5.jpeg"/><Relationship Id="rId15" Type="http://schemas.openxmlformats.org/officeDocument/2006/relationships/image" Target="../media/image4.jpeg"/><Relationship Id="rId16" Type="http://schemas.openxmlformats.org/officeDocument/2006/relationships/image" Target="../media/image3.jpeg"/><Relationship Id="rId17" Type="http://schemas.openxmlformats.org/officeDocument/2006/relationships/image" Target="../media/image2.jpeg"/><Relationship Id="rId18" Type="http://schemas.openxmlformats.org/officeDocument/2006/relationships/image" Target="../media/image6.jpeg"/><Relationship Id="rId19" Type="http://schemas.openxmlformats.org/officeDocument/2006/relationships/image" Target="../media/image6.jpeg"/><Relationship Id="rId20" Type="http://schemas.openxmlformats.org/officeDocument/2006/relationships/image" Target="../media/image4.jpeg"/><Relationship Id="rId21" Type="http://schemas.openxmlformats.org/officeDocument/2006/relationships/image" Target="../media/image3.jpeg"/><Relationship Id="rId22" Type="http://schemas.openxmlformats.org/officeDocument/2006/relationships/image" Target="../media/image2.jpeg"/><Relationship Id="rId2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50560" y="1628640"/>
            <a:ext cx="72658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Знай свои прав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4" descr="Без имени-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3"/>
          <p:cNvSpPr/>
          <p:nvPr/>
        </p:nvSpPr>
        <p:spPr>
          <a:xfrm>
            <a:off x="357120" y="5214960"/>
            <a:ext cx="842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  <a:ea typeface="Narkisim"/>
              </a:rPr>
              <a:t>«По станицам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  <a:ea typeface="Narkisim"/>
              </a:rPr>
              <a:t>трудового прав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Трудовая книжка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https://xn--80aafa1clbcddl0isbzc.xn--p1ai/wp-content/uploads/2019/12/1539974133_wtb3jco0txa_9873.jpg"/>
          <p:cNvPicPr/>
          <p:nvPr/>
        </p:nvPicPr>
        <p:blipFill>
          <a:blip r:embed="rId1"/>
          <a:stretch/>
        </p:blipFill>
        <p:spPr>
          <a:xfrm>
            <a:off x="3714840" y="3929040"/>
            <a:ext cx="2233440" cy="1676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oin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531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Установленный законом отрезок времени в течении которого работник должен выполнять свои трудовые обязанности называетс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1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  <p:pic>
        <p:nvPicPr>
          <p:cNvPr id="152" name="часы 40 сек.mp3" descr=""/>
          <p:cNvPicPr/>
          <p:nvPr/>
        </p:nvPicPr>
        <p:blipFill>
          <a:blip r:embed="rId2"/>
          <a:stretch/>
        </p:blipFill>
        <p:spPr>
          <a:xfrm>
            <a:off x="8572680" y="214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0528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550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Рабочее время 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7" descr="https://webinar-master.ru/wp-content/uploads/2016/06/horarios0619-1000.jpg"/>
          <p:cNvPicPr/>
          <p:nvPr/>
        </p:nvPicPr>
        <p:blipFill>
          <a:blip r:embed="rId1"/>
          <a:stretch/>
        </p:blipFill>
        <p:spPr>
          <a:xfrm>
            <a:off x="3598920" y="3643200"/>
            <a:ext cx="211608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Должен ли несовершеннолетний работник заключать трудовой договор с работодателем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7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  <p:pic>
        <p:nvPicPr>
          <p:cNvPr id="158" name="часы 40 сек.mp3" descr=""/>
          <p:cNvPicPr/>
          <p:nvPr/>
        </p:nvPicPr>
        <p:blipFill>
          <a:blip r:embed="rId2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40528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Да, обязательно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Имеет ли право работодатель уволить работника во время болезни или отпуска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2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  <p:pic>
        <p:nvPicPr>
          <p:cNvPr id="163" name="часы 40 сек.mp3" descr=""/>
          <p:cNvPicPr/>
          <p:nvPr/>
        </p:nvPicPr>
        <p:blipFill>
          <a:blip r:embed="rId2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40528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Нет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Для приема на работу работник должен предоставить работодателю справку с места жительства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7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  <p:pic>
        <p:nvPicPr>
          <p:cNvPr id="168" name="часы 40 сек.mp3" descr=""/>
          <p:cNvPicPr/>
          <p:nvPr/>
        </p:nvPicPr>
        <p:blipFill>
          <a:blip r:embed="rId2"/>
          <a:stretch/>
        </p:blipFill>
        <p:spPr>
          <a:xfrm>
            <a:off x="850104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0528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Нет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Может ли работодатель заставить работника моложе 18 лет  трудиться  на тяжелых работах или работах с вредными и опасными условиями труда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2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  <p:pic>
        <p:nvPicPr>
          <p:cNvPr id="173" name="часы 40 сек.mp3" descr=""/>
          <p:cNvPicPr/>
          <p:nvPr/>
        </p:nvPicPr>
        <p:blipFill>
          <a:blip r:embed="rId2"/>
          <a:stretch/>
        </p:blipFill>
        <p:spPr>
          <a:xfrm>
            <a:off x="8572680" y="214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40528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50560" y="1628640"/>
            <a:ext cx="72658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«По станицам трудового прав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Нет, не может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Выбери правильный ответ назови стороны трудовых отношений? 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 А. гражданин и организация</a:t>
            </a: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Б. работник и наниматель</a:t>
            </a: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В. Работник и работодатель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7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  <p:pic>
        <p:nvPicPr>
          <p:cNvPr id="178" name="часы 40 сек.mp3" descr=""/>
          <p:cNvPicPr/>
          <p:nvPr/>
        </p:nvPicPr>
        <p:blipFill>
          <a:blip r:embed="rId2"/>
          <a:stretch/>
        </p:blipFill>
        <p:spPr>
          <a:xfrm>
            <a:off x="8572680" y="214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0528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Ответ:</a:t>
            </a:r>
            <a:br>
              <a:rPr sz="4800"/>
            </a:b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В. Работник и работодатель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В какой форме заключается трудовой договор ?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А. устной</a:t>
            </a: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Б. письменной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2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  <p:pic>
        <p:nvPicPr>
          <p:cNvPr id="183" name="часы 40 сек.mp3" descr=""/>
          <p:cNvPicPr/>
          <p:nvPr/>
        </p:nvPicPr>
        <p:blipFill>
          <a:blip r:embed="rId2"/>
          <a:stretch/>
        </p:blipFill>
        <p:spPr>
          <a:xfrm>
            <a:off x="8572680" y="142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528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Ответ:</a:t>
            </a:r>
            <a:br>
              <a:rPr sz="4800"/>
            </a:b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Б. письменной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522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Какой документ из перечисленных НЕ требуется при приеме на работу?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А. Паспорт</a:t>
            </a: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Б. Свидетельство о рождении</a:t>
            </a: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В. Трудовая книжка</a:t>
            </a: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Б. диплом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7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  <p:pic>
        <p:nvPicPr>
          <p:cNvPr id="188" name="часы 40 сек.mp3" descr=""/>
          <p:cNvPicPr/>
          <p:nvPr/>
        </p:nvPicPr>
        <p:blipFill>
          <a:blip r:embed="rId2"/>
          <a:stretch/>
        </p:blipFill>
        <p:spPr>
          <a:xfrm>
            <a:off x="850104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0528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Ответ:</a:t>
            </a: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Б. Свидетельство о рождении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С какого возраста  лицо может самостоятельно заключать трудовой договор? </a:t>
            </a:r>
            <a:br>
              <a:rPr sz="4000"/>
            </a:b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А. с 14 года</a:t>
            </a: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Б. с 20 лет</a:t>
            </a: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В. с 16 лет</a:t>
            </a:r>
            <a:br>
              <a:rPr sz="4000"/>
            </a:br>
            <a:r>
              <a:rPr b="0" i="1" lang="ru-RU" sz="4000" spc="-1" strike="noStrike">
                <a:solidFill>
                  <a:srgbClr val="eaeaea"/>
                </a:solidFill>
                <a:latin typeface="Tahoma"/>
              </a:rPr>
              <a:t>Г. с 18 лет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2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  <p:pic>
        <p:nvPicPr>
          <p:cNvPr id="193" name="часы 40 сек.mp3" descr=""/>
          <p:cNvPicPr/>
          <p:nvPr/>
        </p:nvPicPr>
        <p:blipFill>
          <a:blip r:embed="rId2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0528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Ответ:</a:t>
            </a:r>
            <a:br>
              <a:rPr sz="4800"/>
            </a:b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В. с 16 лет</a:t>
            </a:r>
            <a:br>
              <a:rPr sz="4800"/>
            </a:b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8544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Во время каникул 14-летний Николай решил устроиться на работу — расклеивать объявления. Родители Николая возражают. Они считают, что перед новым учебным годом сын  должен как следует отдохнуть. Может ли Николай в этом случае быть принят на работу?</a:t>
            </a:r>
            <a:br>
              <a:rPr sz="4000"/>
            </a:b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97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  <p:pic>
        <p:nvPicPr>
          <p:cNvPr id="198" name="часы 40 сек.mp3" descr=""/>
          <p:cNvPicPr/>
          <p:nvPr/>
        </p:nvPicPr>
        <p:blipFill>
          <a:blip r:embed="rId2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0528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79280" y="981000"/>
          <a:ext cx="8464680" cy="4662720"/>
        </p:xfrm>
        <a:graphic>
          <a:graphicData uri="http://schemas.openxmlformats.org/drawingml/2006/table">
            <a:tbl>
              <a:tblPr/>
              <a:tblGrid>
                <a:gridCol w="2743200"/>
                <a:gridCol w="1508400"/>
                <a:gridCol w="1431720"/>
                <a:gridCol w="1368360"/>
                <a:gridCol w="1413000"/>
              </a:tblGrid>
              <a:tr h="1157400"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Как называется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Да/Н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cc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4480"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Бюро по трудоустройств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Задачк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72000" rIns="72000" tIns="54000" bIns="54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4" name="Рисунок 2" descr="https://avatars.mds.yandex.net/get-zen_doc/1101166/pub_5b83d13aefeafd00a95b477e_5b83d2a1dff62a00aa6e133f/scale_1200"/>
          <p:cNvPicPr/>
          <p:nvPr/>
        </p:nvPicPr>
        <p:blipFill>
          <a:blip r:embed="rId7"/>
          <a:stretch/>
        </p:blipFill>
        <p:spPr>
          <a:xfrm>
            <a:off x="3429000" y="1214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https://avatars.mds.yandex.net/get-zen_doc/1641332/pub_5cc1b2dcc53c2900afb2b922_5cc1b46184bb2d00b4771a2f/scale_1200"/>
          <p:cNvPicPr/>
          <p:nvPr/>
        </p:nvPicPr>
        <p:blipFill>
          <a:blip r:embed="rId8"/>
          <a:stretch/>
        </p:blipFill>
        <p:spPr>
          <a:xfrm>
            <a:off x="6286680" y="1214280"/>
            <a:ext cx="714240" cy="7128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https://cdn.fishki.net/upload/post/201603/20/1891009/tn/c219ae8d5d516076906f9c95ddcaa37f.jpg"/>
          <p:cNvPicPr/>
          <p:nvPr/>
        </p:nvPicPr>
        <p:blipFill>
          <a:blip r:embed="rId9"/>
          <a:stretch/>
        </p:blipFill>
        <p:spPr>
          <a:xfrm>
            <a:off x="4857840" y="1214280"/>
            <a:ext cx="785880" cy="7146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https://avatars.mds.yandex.net/get-zen_doc/1641332/pub_5cc1b2dcc53c2900afb2b922_5cc1b46184bb2d00b4771a2f/scale_1200"/>
          <p:cNvPicPr/>
          <p:nvPr/>
        </p:nvPicPr>
        <p:blipFill>
          <a:blip r:embed="rId10"/>
          <a:stretch/>
        </p:blipFill>
        <p:spPr>
          <a:xfrm>
            <a:off x="3429000" y="2286000"/>
            <a:ext cx="714240" cy="7128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C:\Users\Admin\Desktop\10 р.jpeg"/>
          <p:cNvPicPr/>
          <p:nvPr/>
        </p:nvPicPr>
        <p:blipFill>
          <a:blip r:embed="rId11"/>
          <a:stretch/>
        </p:blipFill>
        <p:spPr>
          <a:xfrm>
            <a:off x="4929120" y="2286000"/>
            <a:ext cx="698400" cy="6541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https://avatars.mds.yandex.net/get-zen_doc/1101166/pub_5b83d13aefeafd00a95b477e_5b83d2a1dff62a00aa6e133f/scale_1200"/>
          <p:cNvPicPr/>
          <p:nvPr/>
        </p:nvPicPr>
        <p:blipFill>
          <a:blip r:embed="rId12"/>
          <a:stretch/>
        </p:blipFill>
        <p:spPr>
          <a:xfrm>
            <a:off x="6286680" y="22147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https://moneta-russia.ru/upload/monety-20-vek/1992-20-lr.jpg"/>
          <p:cNvPicPr/>
          <p:nvPr/>
        </p:nvPicPr>
        <p:blipFill>
          <a:blip r:embed="rId13"/>
          <a:stretch/>
        </p:blipFill>
        <p:spPr>
          <a:xfrm>
            <a:off x="7643880" y="1285920"/>
            <a:ext cx="757080" cy="716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6" descr="C:\Users\Admin\Desktop\10 р.jpeg"/>
          <p:cNvPicPr/>
          <p:nvPr/>
        </p:nvPicPr>
        <p:blipFill>
          <a:blip r:embed="rId14"/>
          <a:stretch/>
        </p:blipFill>
        <p:spPr>
          <a:xfrm>
            <a:off x="3429000" y="3571920"/>
            <a:ext cx="698400" cy="65412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4" descr="https://cdn.fishki.net/upload/post/201603/20/1891009/tn/c219ae8d5d516076906f9c95ddcaa37f.jpg"/>
          <p:cNvPicPr/>
          <p:nvPr/>
        </p:nvPicPr>
        <p:blipFill>
          <a:blip r:embed="rId15"/>
          <a:stretch/>
        </p:blipFill>
        <p:spPr>
          <a:xfrm>
            <a:off x="7643880" y="2286000"/>
            <a:ext cx="785880" cy="71424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https://avatars.mds.yandex.net/get-zen_doc/1641332/pub_5cc1b2dcc53c2900afb2b922_5cc1b46184bb2d00b4771a2f/scale_1200"/>
          <p:cNvPicPr/>
          <p:nvPr/>
        </p:nvPicPr>
        <p:blipFill>
          <a:blip r:embed="rId16"/>
          <a:stretch/>
        </p:blipFill>
        <p:spPr>
          <a:xfrm>
            <a:off x="7643880" y="3500280"/>
            <a:ext cx="714240" cy="7128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" descr="https://avatars.mds.yandex.net/get-zen_doc/1101166/pub_5b83d13aefeafd00a95b477e_5b83d2a1dff62a00aa6e133f/scale_1200"/>
          <p:cNvPicPr/>
          <p:nvPr/>
        </p:nvPicPr>
        <p:blipFill>
          <a:blip r:embed="rId17"/>
          <a:stretch/>
        </p:blipFill>
        <p:spPr>
          <a:xfrm>
            <a:off x="6286680" y="35002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3" descr="https://moneta-russia.ru/upload/monety-20-vek/1992-20-lr.jpg"/>
          <p:cNvPicPr/>
          <p:nvPr/>
        </p:nvPicPr>
        <p:blipFill>
          <a:blip r:embed="rId18"/>
          <a:stretch/>
        </p:blipFill>
        <p:spPr>
          <a:xfrm>
            <a:off x="3429000" y="4857840"/>
            <a:ext cx="757080" cy="71604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4" descr="https://moneta-russia.ru/upload/monety-20-vek/1992-20-lr.jpg"/>
          <p:cNvPicPr/>
          <p:nvPr/>
        </p:nvPicPr>
        <p:blipFill>
          <a:blip r:embed="rId19"/>
          <a:stretch/>
        </p:blipFill>
        <p:spPr>
          <a:xfrm>
            <a:off x="4786200" y="3500280"/>
            <a:ext cx="757440" cy="716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https://cdn.fishki.net/upload/post/201603/20/1891009/tn/c219ae8d5d516076906f9c95ddcaa37f.jpg"/>
          <p:cNvPicPr/>
          <p:nvPr/>
        </p:nvPicPr>
        <p:blipFill>
          <a:blip r:embed="rId20"/>
          <a:stretch/>
        </p:blipFill>
        <p:spPr>
          <a:xfrm>
            <a:off x="4857840" y="4786200"/>
            <a:ext cx="785880" cy="7146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https://avatars.mds.yandex.net/get-zen_doc/1641332/pub_5cc1b2dcc53c2900afb2b922_5cc1b46184bb2d00b4771a2f/scale_1200"/>
          <p:cNvPicPr/>
          <p:nvPr/>
        </p:nvPicPr>
        <p:blipFill>
          <a:blip r:embed="rId21"/>
          <a:stretch/>
        </p:blipFill>
        <p:spPr>
          <a:xfrm>
            <a:off x="6286680" y="4786200"/>
            <a:ext cx="714240" cy="7128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2" descr="https://avatars.mds.yandex.net/get-zen_doc/1101166/pub_5b83d13aefeafd00a95b477e_5b83d2a1dff62a00aa6e133f/scale_1200"/>
          <p:cNvPicPr/>
          <p:nvPr/>
        </p:nvPicPr>
        <p:blipFill>
          <a:blip r:embed="rId22"/>
          <a:stretch/>
        </p:blipFill>
        <p:spPr>
          <a:xfrm>
            <a:off x="7643880" y="4786200"/>
            <a:ext cx="714240" cy="7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2"/>
          <p:cNvSpPr/>
          <p:nvPr/>
        </p:nvSpPr>
        <p:spPr>
          <a:xfrm>
            <a:off x="1143000" y="571680"/>
            <a:ext cx="7286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  <a:ea typeface="Times New Roman"/>
              </a:rPr>
              <a:t>Нет, не может он не совершено летний. Без разрешения родителей. Только с согласия родителей сможет устроится на работ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Несовершеннолетний Иван подал заявление на имя директора магазина. В заявлении он просил принять его на работу ночным сторожем.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Можно ли принять Ивана для выполнения этой работы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1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  <p:pic>
        <p:nvPicPr>
          <p:cNvPr id="202" name="часы 40 сек.mp3" descr=""/>
          <p:cNvPicPr/>
          <p:nvPr/>
        </p:nvPicPr>
        <p:blipFill>
          <a:blip r:embed="rId2"/>
          <a:stretch/>
        </p:blipFill>
        <p:spPr>
          <a:xfrm>
            <a:off x="8572680" y="214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40528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Ответ:</a:t>
            </a:r>
            <a:br>
              <a:rPr sz="4000"/>
            </a:br>
            <a:r>
              <a:rPr b="0" i="1" lang="ru-RU" sz="3600" spc="-1" strike="noStrike">
                <a:solidFill>
                  <a:srgbClr val="eaeaea"/>
                </a:solidFill>
                <a:latin typeface="Tahoma"/>
              </a:rPr>
              <a:t>Нет, так как использовать труд несовершеннолетних на ночных работах запрещено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8560" y="475920"/>
            <a:ext cx="878508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Несовершеннолетний Антон устраивается на работу. В отделе кадров предприятия он принес трудовую книжку, паспорт, заявление, документы воинского учета, свидетельство государственного пенсионного страхования. Можно ли оформить с Антоном трудовой договор?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206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  <p:pic>
        <p:nvPicPr>
          <p:cNvPr id="207" name="часы 40 сек.mp3" descr=""/>
          <p:cNvPicPr/>
          <p:nvPr/>
        </p:nvPicPr>
        <p:blipFill>
          <a:blip r:embed="rId2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40528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500040" y="714240"/>
            <a:ext cx="200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Прямоугольник 2"/>
          <p:cNvSpPr/>
          <p:nvPr/>
        </p:nvSpPr>
        <p:spPr>
          <a:xfrm>
            <a:off x="1571760" y="1428840"/>
            <a:ext cx="671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Нет, так как все несовершеннолетние должны пройти предварительный медицинский осмотр и предоставить справку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571680" y="357120"/>
            <a:ext cx="757224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марте 17-летняя Ольга была принята на работу. В июне она подала заявление с просьбой предоставить ей отпуск в июле. Администрация завода отказалась удовлетворить просьбу Ольги, сославшись на то, что отпуск за первый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од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боты предоставляется работникам по истечении шести месяцев непрерывной работ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а ли администрация завода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3" name="часы 40 сек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40528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857160" y="1214280"/>
            <a:ext cx="7429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ве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т. Ольга несовершеннолетняя, поэтому пользуется льготами в предоставлении отпуска. Правило о необходимости отработать непрерывно шесть месяцев за первый год работы на несовершеннолетних не распространяетс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eaeaea"/>
                </a:solidFill>
                <a:latin typeface="Tahoma"/>
              </a:rPr>
              <a:t>Молодцы !</a:t>
            </a:r>
            <a:endParaRPr b="1" lang="en-US" sz="8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Picture 4" descr="C:\Users\Admin\Desktop\салшют.gif"/>
          <p:cNvPicPr/>
          <p:nvPr/>
        </p:nvPicPr>
        <p:blipFill>
          <a:blip r:embed="rId1"/>
          <a:stretch/>
        </p:blipFill>
        <p:spPr>
          <a:xfrm>
            <a:off x="785880" y="500040"/>
            <a:ext cx="77868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"/>
          <p:cNvSpPr/>
          <p:nvPr/>
        </p:nvSpPr>
        <p:spPr>
          <a:xfrm>
            <a:off x="357120" y="391680"/>
            <a:ext cx="84297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никам предлагается ответить на закрытые вопросы, сгруппированные в четыре категории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выборе вопроса участник сначала называет категорию, затем – номер вопроса   и  стоимость после чего на экране открывается формулировк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читывается  вслух содержание вопроса и варианты отве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змышление отводится 40 секунд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нда, первая ответившая на вопрос разминки   начинает игру. Она выбирает сектор и ячейку с тем количеством  условных денег  которое хочет выигра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команда правильно ответила, то ей присуждается то количество условных денег, которое указано на табло, и команда дальше продолжает игр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ли команда не смогла ответить на вопрос, то  ход переходит к следующей команд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нужно выслушивать до конца, обсудить с членами команды, заранее не выкрикивать ответ. Отвечает один человек от коман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нда, нарушившая правила лишается 10 балло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нда, которая заработает больше баллов, выигра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2000160" y="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равила  иг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8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50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Как называется основной документ, где закреплены трудовые права граждан РФ?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4" name="часы 40 сек.mp3" descr=""/>
          <p:cNvPicPr/>
          <p:nvPr/>
        </p:nvPicPr>
        <p:blipFill>
          <a:blip r:embed="rId2"/>
          <a:stretch/>
        </p:blipFill>
        <p:spPr>
          <a:xfrm>
            <a:off x="857268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52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Трудовой кодекс РФ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9" descr="http://files.sudrf.ru/2851/user/28112017-3.jpg"/>
          <p:cNvPicPr/>
          <p:nvPr/>
        </p:nvPicPr>
        <p:blipFill>
          <a:blip r:embed="rId1"/>
          <a:stretch/>
        </p:blipFill>
        <p:spPr>
          <a:xfrm>
            <a:off x="4000680" y="3714840"/>
            <a:ext cx="1622160" cy="2579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Как называется документ, который подписывает работник при устройстве на работу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9" name="Picture 4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  <p:pic>
        <p:nvPicPr>
          <p:cNvPr id="140" name="часы 40 сек.mp3" descr=""/>
          <p:cNvPicPr/>
          <p:nvPr/>
        </p:nvPicPr>
        <p:blipFill>
          <a:blip r:embed="rId2"/>
          <a:stretch/>
        </p:blipFill>
        <p:spPr>
          <a:xfrm>
            <a:off x="864396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0528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564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aeaea"/>
                </a:solidFill>
                <a:latin typeface="Tahoma"/>
              </a:rPr>
              <a:t>Трудовой договор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10800" y="3932"/>
                </a:moveTo>
                <a:lnTo>
                  <a:pt x="13376" y="6543"/>
                </a:ln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lnTo>
                  <a:pt x="17763" y="10895"/>
                </a:lnTo>
                <a:lnTo>
                  <a:pt x="16109" y="10895"/>
                </a:lnTo>
                <a:lnTo>
                  <a:pt x="16109" y="18084"/>
                </a:lnTo>
                <a:lnTo>
                  <a:pt x="5491" y="18084"/>
                </a:lnTo>
                <a:lnTo>
                  <a:pt x="5491" y="10895"/>
                </a:lnTo>
                <a:lnTo>
                  <a:pt x="3837" y="10895"/>
                </a:lnTo>
                <a:close/>
              </a:path>
              <a:path fill="darkenLess" w="21600" h="21790">
                <a:moveTo>
                  <a:pt x="13376" y="6543"/>
                </a:moveTo>
                <a:lnTo>
                  <a:pt x="13376" y="4802"/>
                </a:lnTo>
                <a:lnTo>
                  <a:pt x="15152" y="4802"/>
                </a:lnTo>
                <a:lnTo>
                  <a:pt x="15152" y="8319"/>
                </a:lnTo>
                <a:close/>
              </a:path>
              <a:path fill="darkenLess" w="21600" h="21790">
                <a:moveTo>
                  <a:pt x="9877" y="14394"/>
                </a:moveTo>
                <a:lnTo>
                  <a:pt x="11723" y="14394"/>
                </a:lnTo>
                <a:lnTo>
                  <a:pt x="11723" y="18084"/>
                </a:lnTo>
                <a:lnTo>
                  <a:pt x="16109" y="18084"/>
                </a:lnTo>
                <a:lnTo>
                  <a:pt x="16109" y="10895"/>
                </a:lnTo>
                <a:lnTo>
                  <a:pt x="5491" y="10895"/>
                </a:lnTo>
                <a:lnTo>
                  <a:pt x="5491" y="18084"/>
                </a:lnTo>
                <a:lnTo>
                  <a:pt x="9877" y="18084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https://im0-tub-ru.yandex.net/i?id=221e5ca0bb80b1386780f2e5e0125700&amp;n=33&amp;w=271&amp;h=180"/>
          <p:cNvPicPr/>
          <p:nvPr/>
        </p:nvPicPr>
        <p:blipFill>
          <a:blip r:embed="rId1"/>
          <a:stretch/>
        </p:blipFill>
        <p:spPr>
          <a:xfrm>
            <a:off x="3286080" y="3929040"/>
            <a:ext cx="2581200" cy="1714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coi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487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Как называется документ, подтверждающий трудовую деятельность работника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3" descr="j0299125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172360" y="5445000"/>
            <a:ext cx="793800" cy="1301760"/>
          </a:xfrm>
          <a:prstGeom prst="rect">
            <a:avLst/>
          </a:prstGeom>
          <a:ln w="0">
            <a:noFill/>
          </a:ln>
        </p:spPr>
      </p:pic>
      <p:pic>
        <p:nvPicPr>
          <p:cNvPr id="146" name="часы 40 сек.mp3" descr=""/>
          <p:cNvPicPr/>
          <p:nvPr/>
        </p:nvPicPr>
        <p:blipFill>
          <a:blip r:embed="rId2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528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5:13:35Z</dcterms:created>
  <dc:creator>Ольга</dc:creator>
  <dc:description/>
  <dc:language>en-US</dc:language>
  <cp:lastModifiedBy>Admin</cp:lastModifiedBy>
  <dcterms:modified xsi:type="dcterms:W3CDTF">2021-12-06T14:27:55Z</dcterms:modified>
  <cp:revision>130</cp:revision>
  <dc:subject/>
  <dc:title>Слайд 1</dc:title>
</cp:coreProperties>
</file>